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C279-7DA5-4C90-A8AD-0C91D4D8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8953-03D6-478E-B16D-5EBA262A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5AED-9555-4427-A0CE-2F185FD2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0D0F-689F-41E9-ACB7-26986CCE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8B56-F515-4E6F-BD69-45B57F6A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CF97-310F-430B-A657-7EBEF219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76B7-F9F2-4A24-9CF7-6A1638E2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A6D8-BAEA-4518-A9C0-B2B0787F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63AC-2FC3-412A-9376-E186ABDB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0BEB-B444-40E0-AFA8-5A19C1DD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E79E-0762-4D3D-AF89-C80F1D65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762-77AC-45CE-8631-88105143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FDB2-FEAA-4422-8613-1C92AF4D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D3E6-7B79-4C7E-9A4E-29A3CDAC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73E7-E2D1-4F96-893F-98D3AF9E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9A3E-40C6-4AA3-8C51-7DE615A8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66C0-E95F-49A2-B2C0-A974D3C3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8E360-3113-418A-88CA-6C27579E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B7B5F-7166-4FBE-8105-9A943CB3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DB0C9-E9B6-450A-8899-AA33E73C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79ABC-1F59-4CBA-92B6-3F070228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CED27-5531-4283-AD60-5172EA1A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3DB-D027-4D0F-8D1A-4039067D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0E58E-B558-4317-9FDA-61A5754B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BC746-6B71-4CBB-AF2F-26F91107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99C9B-42A9-4EE9-A511-59623A6D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23B1A-AF3D-4ECA-8DAD-EAE6CB1B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92BCE-5AE6-4A62-909E-C6D57C4D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D8055-F93D-45D1-AE2E-8E66C9CB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F8ABF-D338-4402-BD07-E69D3A7D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5EFBA-2399-465D-AC6E-BF098F02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B5B77-B9D5-47A9-BCE8-959DD935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58B1C-C58D-41DF-AD47-C4B088DC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D70-ED98-46B9-B45E-FD957C48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D1FB8-93BA-43D6-B37D-E8B90468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F91BF-5E56-4461-88A1-D6AECEC0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68985-ED00-4797-AC41-F2E917FF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FED7B-BA60-41E7-96A5-4E946676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680A3-1AAA-4120-A031-251B7F6D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DC91C-690C-405A-A41A-A1E1D770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2FDCA-FF50-4678-B4D8-4A455009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A10CF-4156-4F86-ADF7-B1235F43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0F6FA-4073-4E0F-99DA-D49584D0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F9E72-D3A0-4AFD-B293-8BBDF623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409A-470E-47AB-BDCF-2158A31F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78401-422E-4387-B212-EE505962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44A96-338C-4A84-BDE5-7CDC8B9F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76226-648E-4F96-B3B0-61E9909F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9210F-9AFD-448F-A4F6-174089E9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FDBA3-688B-467F-B82D-F42177F6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6B6AC-E064-4F0B-B05B-376CBEC0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C97EC-051F-4CD2-9BF5-4B46EB39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69BDE-64F0-456F-B4A2-7D6A345F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F3B87-B125-4BA9-966F-CA126983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B8906-7950-404D-AF28-BB02D7F1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985A-EFA2-4A29-88DE-0F6D165E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E822B-CCF8-485A-8889-2E859E1D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C16FB-FE60-451F-B8E3-ED88D5AF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F5E7F-9656-41D5-A626-B000E119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CA2A4-8AE2-4A79-93A3-BC4E1AC7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02373-C076-40C3-970C-6300018C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F2D33-C824-454D-8962-70DFB1D4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A0BEC-B723-4DF2-9602-097D15DB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B9800-0CC0-4B8E-9B59-D55C2193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F90B7-0665-465B-97CC-C3D296B1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7FA0A-F754-491A-BBCF-71E504B2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AA24-3EF1-4A05-8CF9-1C058EE8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509A7-CE3B-41E9-8342-C68F6705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D945E-4FF1-4886-9D8B-F46846F7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5BC20-30C1-4D61-A7F0-61E7A56C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26954-1D2F-45EC-A820-2F3993DA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965D5-BB07-48BB-8AB8-192797D0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4FF82-407B-4A8F-B88D-D0CA4935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693AF-FBD1-4D4B-A8F4-0B3CC22C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69882-3796-4FBF-A0A1-D167ED06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46843-C4AC-45FD-9232-C6A8F2CA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7705F-A46C-42DA-A237-37A0B630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5974-9E00-440A-8422-27AB499C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93AAA-CD0C-473C-B5A9-B5F4BE0A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E647B-DCC9-4F9A-9445-65A4AB7F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468E4-5150-4932-8847-A0A56B9E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7F457-7CC7-4580-B26A-2D5974B1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4A9C6-21E7-48B9-8C59-A8757AC3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A7440-2377-4519-A277-23469EB2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91F15-2B3E-4EFC-9981-C84B3E8B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265DC-930D-4B86-9540-0C8E0174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E7894-CFED-46E0-ACD4-B6226A46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0F97B-19F8-4387-B125-0B89023B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E63B-B34A-4153-8E1F-353E6D97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D5865-AA50-40FC-8487-C530AE8D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4FD09-5DDD-4506-BE1D-DC5DAF88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C9845-C545-4825-89F0-7C53EEE0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0E968-178D-4DC9-9937-775FA7A6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3E2F3-5B62-4FB5-9BF6-C9F21266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40A0E-53BD-4C37-82C3-670B9427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36681-91E4-4036-89BA-A82F7FFA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98AE-521C-4B9C-A72C-2DEF8F69289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3307-1562-4C7A-A61B-D9D5DEFA48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F6E1-9063-4BBA-BFCC-7F6D5746DD6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15E0-DD48-43D7-8A3F-71D456D426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DCD8-69AF-4F47-B01B-2A0194369C1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63F0-7FBD-47F6-8880-549A717933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1640-84B9-4D3F-89B2-E1B2CA9A4A2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E2F9-D5EC-4AF1-9B60-423F260593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0851-A477-4A0A-A03B-821665A4B33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90C3-B447-4C2B-820C-099AA0DD7C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4237-17A7-402B-A1A2-03987E52B2B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DE70-422C-4CDD-99B1-27D4DF243A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51D7-ADA5-4575-AAB7-67C6C25E904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B06F-D128-478C-8A26-C725803F99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D29D-8552-491F-BD8F-A2BDCB36F39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5707-2CE5-434C-9FD1-0BC708C53C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8"/>
          <p:cNvSpPr/>
          <p:nvPr/>
        </p:nvSpPr>
        <p:spPr>
          <a:xfrm>
            <a:off x="533520" y="144792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aecd"/>
                </a:solidFill>
                <a:latin typeface="Times New Roman"/>
              </a:rPr>
              <a:t>Expenses need to be recorded in the same in the same fiscal period that it is used to produce reven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aecd"/>
                </a:solidFill>
                <a:latin typeface="Times New Roman"/>
              </a:rPr>
              <a:t>The General Ledger accounts must be a current balance and these are updated at the end of the fiscal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aecd"/>
                </a:solidFill>
                <a:latin typeface="Times New Roman"/>
              </a:rPr>
              <a:t>Adjustments are changes made to update general ledger accounts at the end of the fiscal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Box 9"/>
          <p:cNvSpPr/>
          <p:nvPr/>
        </p:nvSpPr>
        <p:spPr>
          <a:xfrm>
            <a:off x="914400" y="652320"/>
            <a:ext cx="7467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Planning Adjustments on a Work Shee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3"/>
          <p:cNvSpPr/>
          <p:nvPr/>
        </p:nvSpPr>
        <p:spPr>
          <a:xfrm>
            <a:off x="380880" y="1143000"/>
            <a:ext cx="815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s to Ask in Analyzing an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balance of   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What should the balance be for this account? (How much was actually used during the fiscal period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hat must be done to correct the account bal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djustments are made?  (Debit and Credit Chang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2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366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D:\C21 PowerPoint\Multi_Journal\art for blue\Ch07\Ch07-02a.jpg"/>
          <p:cNvPicPr/>
          <p:nvPr/>
        </p:nvPicPr>
        <p:blipFill>
          <a:blip r:embed="rId3"/>
          <a:srcRect l="13213" t="0" r="0" b="81568"/>
          <a:stretch/>
        </p:blipFill>
        <p:spPr>
          <a:xfrm>
            <a:off x="380880" y="1630440"/>
            <a:ext cx="8305920" cy="1679400"/>
          </a:xfrm>
          <a:prstGeom prst="rect">
            <a:avLst/>
          </a:prstGeom>
          <a:ln w="0">
            <a:noFill/>
          </a:ln>
        </p:spPr>
      </p:pic>
      <p:sp>
        <p:nvSpPr>
          <p:cNvPr id="375" name="Oval 5"/>
          <p:cNvSpPr/>
          <p:nvPr/>
        </p:nvSpPr>
        <p:spPr>
          <a:xfrm>
            <a:off x="7315200" y="3078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7"/>
          <p:cNvSpPr/>
          <p:nvPr/>
        </p:nvSpPr>
        <p:spPr>
          <a:xfrm>
            <a:off x="8305920" y="19350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457200" y="473076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 the two parts of this adjustment with a small lett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arentheses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457200" y="39924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457200" y="4357800"/>
            <a:ext cx="39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14"/>
          <p:cNvGrpSpPr/>
          <p:nvPr/>
        </p:nvGrpSpPr>
        <p:grpSpPr>
          <a:xfrm>
            <a:off x="5867280" y="2163600"/>
            <a:ext cx="1600200" cy="761760"/>
            <a:chOff x="5867280" y="2163600"/>
            <a:chExt cx="1600200" cy="761760"/>
          </a:xfrm>
        </p:grpSpPr>
        <p:sp>
          <p:nvSpPr>
            <p:cNvPr id="381" name="Line 11"/>
            <p:cNvSpPr/>
            <p:nvPr/>
          </p:nvSpPr>
          <p:spPr>
            <a:xfrm>
              <a:off x="6324480" y="2544480"/>
              <a:ext cx="22860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2"/>
            <p:cNvSpPr/>
            <p:nvPr/>
          </p:nvSpPr>
          <p:spPr>
            <a:xfrm>
              <a:off x="6172200" y="2503080"/>
              <a:ext cx="12952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Oval 6"/>
            <p:cNvSpPr/>
            <p:nvPr/>
          </p:nvSpPr>
          <p:spPr>
            <a:xfrm>
              <a:off x="5867280" y="216360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Text Box 15"/>
          <p:cNvSpPr/>
          <p:nvPr/>
        </p:nvSpPr>
        <p:spPr>
          <a:xfrm>
            <a:off x="7429320" y="665892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7-2, page 1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2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242560" cy="13651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D:\C21 PowerPoint\Multi_Journal\art for blue\Ch07\Ch07-02b.jpg"/>
          <p:cNvPicPr/>
          <p:nvPr/>
        </p:nvPicPr>
        <p:blipFill>
          <a:blip r:embed="rId3"/>
          <a:srcRect l="13213" t="0" r="0" b="80303"/>
          <a:stretch/>
        </p:blipFill>
        <p:spPr>
          <a:xfrm>
            <a:off x="380880" y="1630440"/>
            <a:ext cx="8305920" cy="1793880"/>
          </a:xfrm>
          <a:prstGeom prst="rect">
            <a:avLst/>
          </a:prstGeom>
          <a:ln w="0">
            <a:noFill/>
          </a:ln>
        </p:spPr>
      </p:pic>
      <p:sp>
        <p:nvSpPr>
          <p:cNvPr id="387" name="Oval 5"/>
          <p:cNvSpPr/>
          <p:nvPr/>
        </p:nvSpPr>
        <p:spPr>
          <a:xfrm>
            <a:off x="7315200" y="3078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8305920" y="19350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457200" y="473076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 the two parts of this adjustment with a small lett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arentheses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b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457200" y="39924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457200" y="4357800"/>
            <a:ext cx="39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0"/>
          <p:cNvGrpSpPr/>
          <p:nvPr/>
        </p:nvGrpSpPr>
        <p:grpSpPr>
          <a:xfrm>
            <a:off x="5867280" y="2163600"/>
            <a:ext cx="1600200" cy="761760"/>
            <a:chOff x="5867280" y="2163600"/>
            <a:chExt cx="1600200" cy="761760"/>
          </a:xfrm>
        </p:grpSpPr>
        <p:sp>
          <p:nvSpPr>
            <p:cNvPr id="393" name="Line 11"/>
            <p:cNvSpPr/>
            <p:nvPr/>
          </p:nvSpPr>
          <p:spPr>
            <a:xfrm>
              <a:off x="6324480" y="2544480"/>
              <a:ext cx="22860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12"/>
            <p:cNvSpPr/>
            <p:nvPr/>
          </p:nvSpPr>
          <p:spPr>
            <a:xfrm>
              <a:off x="6172200" y="2503080"/>
              <a:ext cx="12952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Oval 13"/>
            <p:cNvSpPr/>
            <p:nvPr/>
          </p:nvSpPr>
          <p:spPr>
            <a:xfrm>
              <a:off x="5867280" y="216360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Text Box 14"/>
          <p:cNvSpPr/>
          <p:nvPr/>
        </p:nvSpPr>
        <p:spPr>
          <a:xfrm>
            <a:off x="7429320" y="665892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7-2, page 1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242560" cy="136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D:\C21 PowerPoint\Multi_Journal\art for blue\Ch07\Ch07-02c.jpg"/>
          <p:cNvPicPr/>
          <p:nvPr/>
        </p:nvPicPr>
        <p:blipFill>
          <a:blip r:embed="rId3"/>
          <a:srcRect l="30968" t="0" r="0" b="67097"/>
          <a:stretch/>
        </p:blipFill>
        <p:spPr>
          <a:xfrm>
            <a:off x="379440" y="1447920"/>
            <a:ext cx="5978520" cy="3984480"/>
          </a:xfrm>
          <a:prstGeom prst="rect">
            <a:avLst/>
          </a:prstGeom>
          <a:ln w="0">
            <a:noFill/>
          </a:ln>
        </p:spPr>
      </p:pic>
      <p:sp>
        <p:nvSpPr>
          <p:cNvPr id="399" name="Oval 4"/>
          <p:cNvSpPr/>
          <p:nvPr/>
        </p:nvSpPr>
        <p:spPr>
          <a:xfrm>
            <a:off x="2133720" y="464832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6"/>
          <p:cNvSpPr/>
          <p:nvPr/>
        </p:nvSpPr>
        <p:spPr>
          <a:xfrm>
            <a:off x="6248520" y="49528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6324480" y="354636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double 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6324480" y="19051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Rule a single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6324480" y="227016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both the Adjustments Debit and Credit colum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Group 12"/>
          <p:cNvGrpSpPr/>
          <p:nvPr/>
        </p:nvGrpSpPr>
        <p:grpSpPr>
          <a:xfrm>
            <a:off x="4495680" y="5333760"/>
            <a:ext cx="914400" cy="838440"/>
            <a:chOff x="4495680" y="5333760"/>
            <a:chExt cx="914400" cy="838440"/>
          </a:xfrm>
        </p:grpSpPr>
        <p:sp>
          <p:nvSpPr>
            <p:cNvPr id="405" name="Line 10"/>
            <p:cNvSpPr/>
            <p:nvPr/>
          </p:nvSpPr>
          <p:spPr>
            <a:xfrm flipV="1">
              <a:off x="4876920" y="5333760"/>
              <a:ext cx="533160" cy="6094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Oval 5"/>
            <p:cNvSpPr/>
            <p:nvPr/>
          </p:nvSpPr>
          <p:spPr>
            <a:xfrm>
              <a:off x="4495680" y="563904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Text Box 13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7-2, page 1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20:57:13Z</dcterms:created>
  <dc:creator>Mary Colleen McLaughlin</dc:creator>
  <dc:description/>
  <dc:language>en-US</dc:language>
  <cp:lastModifiedBy>David Combs</cp:lastModifiedBy>
  <cp:lastPrinted>1999-03-30T19:55:23Z</cp:lastPrinted>
  <dcterms:modified xsi:type="dcterms:W3CDTF">2012-11-06T00:48:24Z</dcterms:modified>
  <cp:revision>27</cp:revision>
  <dc:subject/>
  <dc:title>THE ACCOUNTING EQUATION</dc:title>
</cp:coreProperties>
</file>